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5.wmf" ContentType="image/x-wmf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6D1E-03BC-47A7-A9C6-B230D1B9F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DB45-9BD6-46E4-A7FA-73433FB042E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FD62-CFA9-4C13-A3F5-1ED3E909C78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268E-9FC9-49F3-84DA-AA76EE2849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D197-6DA5-40BA-8A61-0CC4A5D7496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34220-AB22-44A5-8CD0-B31DC6B47B5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FF61-3956-4A4D-A81B-E327BF92BA6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358F-6DB6-401B-9C02-78296930D4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23DA-6579-4DFB-84E9-CD2C70C6527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96CA0-0EFD-41C8-AFA4-2214EC2FD7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68E24-A4D8-41F3-A8F0-ED2AC4A7F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2698-13FF-4539-ADC3-E4C58F7CE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7652-ABB4-407B-877C-3A5E5C672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285D2-9866-42EA-8E94-F5AC0FFAB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9B411-10BF-42F6-89BB-2924C2288A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ABC4F-97B3-4DF6-B94E-8AC38590C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9507B-4FBC-423B-84E9-911AD7630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D3619-F16D-4534-97C5-2B62BA93E6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A44D8-78B5-4D0F-8268-AC660D5F06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B9496-AF1D-4A84-BD52-C5626D60E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5790-29A9-42C3-975B-4E57EC8DB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104F2-DE79-4D02-B2FA-2D720AD44D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6093A-D833-454C-84C0-C8EDE7108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7E65A-5046-41C5-A030-B758983E50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BC3FF-74A5-4C1A-9E6C-1BF378B26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10658-3912-4D79-8E68-11C71FC698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89D7E-A119-4E67-BC73-D1457C05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DD2A1-F4C2-40E8-A61F-4FE3A7AB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91ACF-EA99-4A1E-B16F-375F3902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6BD06-4130-46AB-BE7A-F64480F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AB994-5F49-4D00-9E05-A8707FDE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DBB6-2844-4B52-A40F-92ED002334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CE485-C1E3-4823-8D48-7F59331F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089ED-2E34-4F71-A292-06F5F24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212D2-0F7E-4C95-8B86-775CCF6A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EE797-A75E-4470-8B5D-75375F69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DB4DF-4476-4F51-90CD-F48B7B5C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FF313-75FE-4003-8886-74B07E9D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25CC5-5DF0-4BDC-BE9F-C7B78478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60E15-D255-488F-B9FA-158BD187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ECF83-F83E-4350-9B6A-30F05068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D0CED-607C-4963-A4A4-EF1799EF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9A75-58F2-4761-B648-279ECB44C8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24CCE-CBE0-4596-B5E6-5002ADC0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8D19A-659A-4CCA-8176-EADA28D2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4A5E1-C4B5-4A0D-9509-1B895F6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447FF-CCCD-4343-BA66-487192F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71A72-EC8B-4958-8031-0E67418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A5BE7-E009-4DAD-B442-C60E034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49E85-32E9-4B4C-AA88-F55C807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88135-1982-4A66-BBFF-5A4A9195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4A91C-E5F9-40FF-916C-EE722339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E45EF5-6976-4F27-BF09-248E497D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79CB-3120-4406-B9AB-459C5AE17D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BE12C-7291-4E7B-AD65-8C837138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C60674-1E31-4AA5-B287-2642B02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2BB449-7653-401C-A716-3789C51F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73FE2-6F8B-417E-B831-240CC408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D298B2-F9F6-469E-A241-BDBF0866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615C9-3B60-4864-8B86-2B037E9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D383A9-A856-4C57-9C6E-43DFF33C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E9EEA6-97EC-4357-83D2-055967F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63F644-4D96-4029-924C-10C3DFF3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DA10F-4246-48B1-B4EB-1B448E06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9924-04FE-4099-86A1-92B69F25C9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AF8534-259E-4231-A31F-1B988630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9174-C11A-4826-8285-EFDC778B35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B1C8-81CE-47EC-9732-A3B01585CF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2D64-E0AF-4C74-A823-7514AEF282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CCCCB-ECA1-41D0-93C2-49491EE0FD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4B2D-02D2-48B0-9CF4-C2BB3FC157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5120-6BC8-4D87-9DF4-F472ED9A4D0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2D0E-47D5-45C1-A8A5-CBE42C27A6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0F9A-A80B-4776-B18B-1E3E474C15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3818-5F79-4F47-AA0D-58BF314A8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5EB8-94ED-412C-9E73-4DC9BF41A1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CC5D3-8A29-4ED2-902B-4D513D57D6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2BB50-23E5-4A73-B8E2-E57BA19425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B9749-ECB7-4C59-9183-7220E50B97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73302-F113-49C8-BCC8-FAA1842E82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22D25-824C-4BA5-8C2A-DBB66F605A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DD564-3693-4F32-A849-9DA7694543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9E707-37D1-475A-97E9-96D84B24A2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BFD14-1D9C-4E16-AA96-9B4D4DE9B3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EA8F5-EC82-431A-AFE2-D046A4441D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8A2D7-7392-4346-AF82-B208B2FCA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5A1A-1E92-43B1-88C5-494969CDAE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1C047-C059-4C23-9477-3DCB1BCA06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F466D-289B-421E-8FE7-780CBD08386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21C50-75F4-4CE7-8E6B-2EB74A9A28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2A417-BF22-4E90-A4CF-60612578E7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66C96-BEBF-4269-9C4C-F78B20C23C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5C04F-FCCC-489D-83F2-93666DC107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28FCE-445F-49BB-A2E8-58F9C0506D9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F2AF-7B93-476B-9A3C-ACDC4F660D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50371-6ECE-4C87-85C5-F7DA446B055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D8E55-FB63-4DCB-AE18-38BB21CB2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B945-875F-4B45-AF6A-E54BC64C092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4982C-75D5-4017-BE4B-5E5B9026158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DA0E-5C15-4D6D-8AA8-270C7C75DE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7071F-D2B2-464B-9633-FC2E56E20B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B29B0-E332-4FB2-86A9-9C2CDC89A07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D34B-8F6B-409B-B9FD-CD2B648E55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53951-934E-4E00-B067-6A228E0EAB1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BE0A-1010-4206-B462-7E61C55787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24B77-66B1-40FE-934C-5C0DCB70B4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E64E7-240C-4B51-9A6E-639F877D8A0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46CB-09F1-4EF9-BF23-C5F8CEE38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00afc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9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94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6039EE2-3685-47D6-BD57-8E095D6FA5C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40120" y="6137280"/>
            <a:ext cx="44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trepreneurship: Idea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8880" y="6444360"/>
            <a:ext cx="35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 Cengage Learning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99ccff">
                  <a:alpha val="10196"/>
                </a:srgbClr>
              </a:gs>
              <a:gs pos="100000">
                <a:srgbClr val="ffffff">
                  <a:alpha val="7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>
                  <a:alpha val="6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8600"/>
            <a:ext cx="36558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00afc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685800" y="6172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D4CDA20-D9D2-4A10-B249-9B40DE72B9B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6172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trepreneurship: Idea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18880" y="6444360"/>
            <a:ext cx="35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 Cengage Learning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04920"/>
            <a:ext cx="533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  <a:p>
            <a:pPr lvl="1" marL="398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9640" algn="ctr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499"/>
              </a:spcBef>
              <a:buClr>
                <a:srgbClr val="f7ff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74920" algn="ctr"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7492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7492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F3BC-4331-439C-BB3A-B1A0C4452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0368-9E2D-4B51-8596-6241172B2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1939-6CBE-4A70-87A8-12EE435F6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ftr" idx="14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32F7E11-61D4-4E1B-9E08-7F46461297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ftr" idx="16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87343E8-40F3-4B96-8309-94EE4AF3AC4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61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E6C2C91-E679-42AD-BCE4-FDDC44C6808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ftr" idx="19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61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7FD5736-5FBB-4160-970A-58C4186FF5D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61A75BE-1677-493A-B05C-99626AF4D8C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n and Track Your Financ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142640" y="30477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33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0000"/>
                </a:solidFill>
                <a:latin typeface="Arial"/>
              </a:rPr>
              <a:t>9.1 Finance Your Business   </a:t>
            </a: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  <a:p>
            <a:pPr marL="1033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0000"/>
                </a:solidFill>
                <a:latin typeface="Arial"/>
              </a:rPr>
              <a:t>9.2 Pro Forma Financial Statements   </a:t>
            </a: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  <a:p>
            <a:pPr marL="1033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0000"/>
                </a:solidFill>
                <a:latin typeface="Arial"/>
              </a:rPr>
              <a:t>9.3 Record Keeping for Businesses </a:t>
            </a: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79640" y="304920"/>
            <a:ext cx="54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Equity Capital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t-to-equity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 between the dollars you have borrowed and the dollars you have invested in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percentage of your own money that you have invested, the easier it will be for you to get others to inv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5BC0-FBA2-4960-8398-817F5B5D1707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ey invested in a business in return for a share in the profits of the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equit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and 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ure Capit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or companies that make a living investing in startup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7FDE-3310-498E-A430-A994742673BA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36232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are some of the ways entrepreneurs can get equity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16F6-93E5-4268-AA5F-741811449029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Debt Capital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t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loaned to a business with the understanding that the money will be re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with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and 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how the loan will affect you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a formal agreement regarding repaymen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671B-9271-4A1C-B48D-8AE57902FAA7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Commercial Bank Loan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d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that are backed by col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hat the borrower forfeits if he or she defaults on th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AA2B-0F5A-46F5-8DAD-B3E0CC9CE65D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of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receivable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143000"/>
            <a:ext cx="784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4680" indent="-36468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cured loans 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E052-FD0F-4FC3-B637-34C2040E0C47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that are not guaranteed with col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made to creditworthy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114300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ecured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A1E2-A3BF-4B3F-815A-208D026D0998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is a start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ck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busines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in the 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11430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4680" indent="-36468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a bank may not lend mon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8B6F-D86F-42AF-80DE-AE5B5D4C4121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 Investment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ity Enterprise Small Business Investment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Housing and Urb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conomic Development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d Municipal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11430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ources of loa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5958-D0F8-4A29-8B36-53220C72E901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ere can entrepreneurs look for debt financ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61F5-5021-4876-B5EF-963B10A06088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Ideas in Action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elin Shea addressed the unmet need in the marketplace for attractive, personalized covers for electronic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advice to other entrepreneurs starting a   business i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a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on a h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990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ic Safekeep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C846-C9A3-4B99-AA3C-042AE5B01928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b"/>
                </a:solidFill>
                <a:latin typeface="Arial"/>
              </a:rPr>
              <a:t>Lesson 9.2</a:t>
            </a:r>
            <a:br>
              <a:rPr sz="2000"/>
            </a:br>
            <a:r>
              <a:rPr b="1" lang="en-US" sz="4000" spc="-1" strike="noStrike">
                <a:solidFill>
                  <a:srgbClr val="af0000"/>
                </a:solidFill>
                <a:latin typeface="Arial"/>
              </a:rPr>
              <a:t>Pro Forma Financial Statements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7a41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pro forma cash flow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pro forma income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pro forma balance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74E4-FE8F-4A31-AF8D-B72F954C32F1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Term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she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6DE0-438C-462B-ACBA-D409325C8031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Cash Flow Statement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ounting report that describes the way cash flows into and out of your business ove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BB31-4F09-4CE8-AE70-D9C64405BD0E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Forecast Receipts and Disbursements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cash rece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cash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9D0A-23FA-45D6-AD2C-955D1FF8D752}" type="slidenum">
              <a:t>23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rcRect l="20315" t="33337" r="3127" b="11458"/>
          <a:stretch/>
        </p:blipFill>
        <p:spPr>
          <a:xfrm>
            <a:off x="914400" y="990720"/>
            <a:ext cx="7467480" cy="40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BF4F-EBB1-4DD3-8813-12DCCA9419F7}" type="slidenum">
              <a:t>24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rcRect l="42969" t="33337" r="14844" b="13540"/>
          <a:stretch/>
        </p:blipFill>
        <p:spPr>
          <a:xfrm>
            <a:off x="2438280" y="99072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6002-F38D-4998-9935-6EB7C5EB587B}" type="slidenum">
              <a:t>25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Prepare the Cash Flow Statement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ash flow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receip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h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 monthly cash flow statemen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you to anticipate periods of positive and negative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8628-5BFB-43B8-9704-B6DB9B025CCC}" type="slidenum">
              <a:t>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rcRect l="18749" t="25004" r="14844" b="15627"/>
          <a:stretch/>
        </p:blipFill>
        <p:spPr>
          <a:xfrm>
            <a:off x="1219320" y="762120"/>
            <a:ext cx="647676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707D-D1F6-4AAA-BA60-3856861F11AC}" type="slidenum">
              <a:t>27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Economic Effects on Cash Flow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economy can dramatically effect the cash flow of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owners should make conservative esti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658B-D1C4-4EAB-92D0-A1CD8154A950}" type="slidenum">
              <a:t>28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does a cash flow statement s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05C2-0236-44A0-88DA-DA50C93AAF2B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b"/>
                </a:solidFill>
                <a:latin typeface="Arial"/>
              </a:rPr>
              <a:t>Lesson 9.1</a:t>
            </a:r>
            <a:br>
              <a:rPr sz="2000"/>
            </a:br>
            <a:r>
              <a:rPr b="1" lang="en-US" sz="4000" spc="-1" strike="noStrike">
                <a:solidFill>
                  <a:srgbClr val="af0000"/>
                </a:solidFill>
                <a:latin typeface="Arial"/>
              </a:rPr>
              <a:t>Finance Your Business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7a41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your startup costs and personal net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ources of equity capital for you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ources of debt capital for you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1823-DEB5-482C-B7CE-91A3CF4410F9}" type="slidenum">
              <a:t>3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Income Statement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revenues and expenses incurred ove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profit or loss for the ti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34DB-E5D4-424C-B151-13FB966140DA}" type="slidenum">
              <a:t>30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Prepare a Pro Forma Income Statement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ng-term growth of your business can be demonstrated by a pro forma income statement prepared for multipl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4715-1E1F-4508-90B7-C13E6FF34F10}" type="slidenum">
              <a:t>31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 before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/loss after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44880" indent="-34488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 forma income statement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10F57-1D99-4740-B86D-CE46EDF64D55}" type="slidenum">
              <a:t>32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rcRect l="11721" t="22917" r="39064" b="12502"/>
          <a:stretch/>
        </p:blipFill>
        <p:spPr>
          <a:xfrm>
            <a:off x="1676520" y="533520"/>
            <a:ext cx="480060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A9DB-D18C-4580-9464-7A2404A58118}" type="slidenum">
              <a:t>33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does an income statement s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B12F-7387-4BAB-BE55-510522046E2A}" type="slidenum">
              <a:t>34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Balance Sheet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nancial statement that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 business 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 business ow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a business is worth at a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il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wner’s 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AB5E-2ED7-419E-BC43-E93FFE5EBBD7}" type="slidenum">
              <a:t>35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Prepare a Pro Forma Balance Sheet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any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that are used up in normal busines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s owed to a business by its credi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6E37-55A1-4419-8206-386F62E15EBB}" type="slidenum">
              <a:t>36</a:t>
            </a:fld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s that are payable over a year or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li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s that must be paid in full in less tha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s owed to vendors for merchandise purchased on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liabil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07AA-5A80-4B48-AF2B-1C3ED57123F7}" type="slidenum">
              <a:t>37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a company estimates it will not receiv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ering of an asset’s value to reflect its current 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ance for uncollectible accou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A5ED-C0EF-4693-8366-FB67B1F0FCD7}" type="slidenum">
              <a:t>38</a:t>
            </a:fld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17970" t="22917" r="17970" b="13540"/>
          <a:stretch/>
        </p:blipFill>
        <p:spPr>
          <a:xfrm>
            <a:off x="1447920" y="685800"/>
            <a:ext cx="624816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2BF4-B1E7-46E5-91EE-F8328B5AB3AB}" type="slidenum">
              <a:t>39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Term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-to-equity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 capit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t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7173-ABE7-4470-9E5C-8355803EB4DC}" type="slidenum">
              <a:t>4</a:t>
            </a:fld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36232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ame one example each of a current liability, a long-term liabi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a current asset, and a fixed as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6B8B-5E9C-414B-AD16-C28D94852B93}" type="slidenum">
              <a:t>40</a:t>
            </a:fld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b"/>
                </a:solidFill>
                <a:latin typeface="Arial"/>
              </a:rPr>
              <a:t>Lesson 9.3</a:t>
            </a:r>
            <a:br>
              <a:rPr sz="2000"/>
            </a:br>
            <a:r>
              <a:rPr b="1" lang="en-US" sz="4000" spc="-1" strike="noStrike">
                <a:solidFill>
                  <a:srgbClr val="af0000"/>
                </a:solidFill>
                <a:latin typeface="Arial"/>
              </a:rPr>
              <a:t>Record Keeping for Businesses 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7a41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use of journals and ledgers in a recordkeep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importance of keeping accurate and up-to-date bank, payroll, and tax reco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252F-3B22-44AE-AC3B-384A20089287}" type="slidenum">
              <a:t>41</a:t>
            </a:fld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Term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0DA8-7BFD-4756-A77E-10460B8FFC9C}" type="slidenum">
              <a:t>42</a:t>
            </a:fld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Recording Transaction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business activity that changes assets, liabilities or net 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records of the transactions you mak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7A47-9A76-4F0B-A76F-34C568822E8C}" type="slidenum">
              <a:t>43</a:t>
            </a:fld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ral ledger is made up of accou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ounting record that provides financial detail for a particular business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FEF4-4F26-48FE-8E08-9E4D22DC462B}" type="slidenum">
              <a:t>44</a:t>
            </a:fld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accounts payable to show in detail the transactions with each vendor from whom merchandise is purchased on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ord keeping tool for tracking accounts recei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how long it takes customers to pay their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diary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8FC6-D77F-44F6-8F02-1CBD9C43976D}" type="slidenum">
              <a:t>45</a:t>
            </a:fld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14360" y="1600200"/>
            <a:ext cx="8313840" cy="228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21C2-20CA-438B-AF24-7821B12871DD}" type="slidenum">
              <a:t>46</a:t>
            </a:fld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is the difference between a journal and a ledg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378F-A736-425A-BC5C-F9663CC4C135}" type="slidenum">
              <a:t>47</a:t>
            </a:fld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Business Record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siness checking account should be esta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let (or electronic register) where you record information for each check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person or business receiving your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C893-01F5-4186-B74D-6AC0EFA85FFE}" type="slidenum">
              <a:t>48</a:t>
            </a:fld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alance your account each time a transaction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cile Your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nth you should reconcile your bank statement with your check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Your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4EE6-9B54-477D-893A-A4321317B1EB}" type="slidenum">
              <a:t>49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Assess Your Financial Needs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ize startup co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amount of capital required to start you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709D-38E2-4D16-B0D6-9BCEF0127FBC}" type="slidenum">
              <a:t>5</a:t>
            </a:fld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rcRect l="7811" t="33337" r="10938" b="19791"/>
          <a:stretch/>
        </p:blipFill>
        <p:spPr>
          <a:xfrm>
            <a:off x="609480" y="1066680"/>
            <a:ext cx="792504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405F-F974-46AC-B37B-DB3CE55B524E}" type="slidenum">
              <a:t>50</a:t>
            </a:fld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people who receive salary or wage payments from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F3E3-70FD-48BE-B809-A02A1A1FCEE8}" type="slidenum">
              <a:t>51</a:t>
            </a:fld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es that earn a profit must pay income t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Taxes and D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 taxes from employees pay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axes to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insurance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d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BB8A-C83F-43A8-9AD1-320A4A334A30}" type="slidenum">
              <a:t>52</a:t>
            </a:fld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 are based on a percentage of 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nth you deposit sales tax into a government owned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B735-EB47-4955-96CB-341C83EF4C08}" type="slidenum">
              <a:t>53</a:t>
            </a:fld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kinds of bank, payroll, and tax records do you have to kee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B0C1-D8B6-4FB3-B013-1B1C3893EA14}" type="slidenum">
              <a:t>54</a:t>
            </a:fld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7a41"/>
                </a:solidFill>
                <a:latin typeface="Arial"/>
              </a:rPr>
              <a:t>PERFORMANCE INDICATORS EVALUATED</a:t>
            </a:r>
            <a:endParaRPr b="1" lang="en-US" sz="36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opportunity for business expa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convincing rationale for expanding a business into two surrounding comm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mplete financial plan for a business ven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43864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DC1A-8840-4B37-A2BD-F13BCEA004A4}" type="slidenum">
              <a:t>55</a:t>
            </a:fld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80520" y="27428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financial information to obtain a loan from a financial instit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a financial proposal for a growing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time and information for an effective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1752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a business loan from a financial institu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438640" cy="11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E61D-3382-480A-BA04-BB350047089B}" type="slidenum">
              <a:t>56</a:t>
            </a:fld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THINK CRITICALLY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 financial institution want to know the future sales potential of the business’s target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business’s workforce have to do with a business lo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43864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5DA7-E963-495E-9FBA-D0AAD1E986D8}" type="slidenum">
              <a:t>57</a:t>
            </a:fld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st the team describe the target market demographics for the two new proposed locations for the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8288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a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the business project how quickly a loan will be repai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438640" cy="11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CB1B-2434-4E16-9728-24B2515A3286}" type="slidenum">
              <a:t>58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rcRect l="53907" t="22917" r="11721" b="11458"/>
          <a:stretch/>
        </p:blipFill>
        <p:spPr>
          <a:xfrm>
            <a:off x="2658960" y="457200"/>
            <a:ext cx="378000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2A2E-0D99-4862-B586-D08497E61116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Personal Financial Statement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wor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financial stateme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─ personal li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560E-D01F-4026-916D-51550DCA01A7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rcRect l="17970" t="26042" r="7032" b="12502"/>
          <a:stretch/>
        </p:blipFill>
        <p:spPr>
          <a:xfrm>
            <a:off x="990720" y="838080"/>
            <a:ext cx="731520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DD9B-E22D-4E80-9EFF-05F34AFB451D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36232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y is the net worth of an entrepreneur important to potential investors in the busine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DCBD-9941-405C-BEC4-30A3FE102F0B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Marce Epstein</cp:lastModifiedBy>
  <dcterms:modified xsi:type="dcterms:W3CDTF">2007-12-24T21:00:34Z</dcterms:modified>
  <cp:revision>811</cp:revision>
  <dc:subject/>
  <dc:title>Chapter 5</dc:title>
</cp:coreProperties>
</file>